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A0E-B649-4BD9-9B9A-11D6449E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FC56-304A-44EC-9217-71CF86F3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694-56F6-4D37-9087-34916A4A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9B6-97B9-4C48-AAE1-8AE34BE2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A73F-F408-4F14-B6A5-370AD68D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755A-B092-457B-BCDA-69C17448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7794-273A-4398-BD8C-A99FD521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F706-F0DD-4DCE-A9C5-8315C640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75AB-50C2-4DA2-9013-391EC7E3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68AE-4318-4FFA-9BBC-CB510BA2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A2BB-E043-4B61-8F20-D90415AD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6AA-E0B5-44A8-93D4-510A6DAA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5DE6-4B63-4B51-BFB5-09535B5B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69DC-B281-400D-AD3E-315FD95D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8994-43A1-4DD0-A0C3-824145B7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0B27-9A8B-479A-8F5F-55EE50AB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EC6E-6311-4F81-8225-BB5610F1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4617-018F-48E8-BC7B-B190C0A9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7B6-C6B4-4B3C-B09B-BE7D8970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4AA5-6F0B-47B9-A5BD-8C9034C6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29D-5B0C-4E47-AB29-5D20677D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065-5049-4A6C-92CA-D2A16AF5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F5E-537B-4C84-B9CD-8C03834D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B826-96D9-404C-81FB-2D96D2D1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047E-9270-4386-936C-A9451ABF5C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B146-28C7-408B-8DDB-F996EEDC7C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e rol au rezistoarele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Rezistoare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sunt dispozitive folosite în instalaţiile electrice pentru a micşora intensitatea curentului prin rezistenţa electric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ărimea caracteristică est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rezistenţa electric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 = U / 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Clasificar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) după material pot fi: - metal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cu lich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chim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) după construcţie pot fi: - fixe ( rezistenţa nu poate fi modificată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variabi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364824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egarea rezistoarelor </a:t>
            </a: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n seri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 de calcul a 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e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 echivalen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97160" y="2928960"/>
            <a:ext cx="45482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egarea rezistoarelor </a:t>
            </a: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n paralel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 de calcul a 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e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 echivale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03640" y="2637000"/>
            <a:ext cx="453528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eg</a:t>
            </a: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ea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lui Ohm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Tensiunea electrică aplicată la capetele unui conductor este direct proporţională cu intensitatea curentului electric care trece prin acel conduct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 = 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Legea lui Joul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La trecerea unui curent de intensitate I printr-un conductor de rezistenţă R într-un interval de tim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se produce o cantitate de căldură Q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 </a:t>
            </a:r>
            <a:r>
              <a:rPr b="0" lang="ro-RO" sz="2900" spc="-1" strike="noStrike">
                <a:solidFill>
                  <a:srgbClr val="000000"/>
                </a:solidFill>
                <a:latin typeface="Verdana"/>
              </a:rPr>
              <a:t>= R×I×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172200" y="205740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Sarcini de lucru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Grupa 1: Prezentare Power Point a conexiunii serie a rezistoarelor şi experiment pentru verificarea acestei conexiun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Grupa 2: Prezentare Power Point a conexiunii paralel a rezistoarelor şi experiment pentru verificarea acestei conexiun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Grupa 3: Prezentare Power Point a legii lui Ohm şi experiment pentru verificarea acestei leg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Grupa 4: Prezentare Power Point a legii lui Joule şi experiment pentru verificarea acestei leg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Cerinţe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rezentarea Power Point a grupe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să nu conţină mai mult de 15 diapozi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scrierea se face cu Arial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3:10:49Z</dcterms:created>
  <dc:creator>ws21</dc:creator>
  <dc:description/>
  <dc:language>en-US</dc:language>
  <cp:lastModifiedBy>Electro</cp:lastModifiedBy>
  <dcterms:modified xsi:type="dcterms:W3CDTF">2009-12-13T15:25:31Z</dcterms:modified>
  <cp:revision>5</cp:revision>
  <dc:subject/>
  <dc:title>Ce rol au rezistoarele?</dc:title>
</cp:coreProperties>
</file>